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0DB-DC3F-4066-B4ED-866EA968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4F7-6712-464F-BDCE-581CE4F6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A80-CFF6-4E5E-9D9A-0B4EE12B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9E9-68D5-47B8-972F-7F45878A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9C2-2D98-492E-A930-0A9A3A69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8BD-080F-4FB7-BED6-BF934AC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EAC7-FEC2-42FE-A568-E9DA660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C320-1D9C-4C7C-9A67-9678F687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3019-24DF-4A34-9C66-C910C12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F7AA-2E2B-4A0E-B4C5-59E8998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6956-40B6-4DC1-BCC4-816F739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DAE-7FCA-4712-B37E-51874CF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DC4-8A5D-489E-944F-2DB8AB1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51C-5F5B-4165-BD82-1D040D7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1105-8E8C-4F58-8F79-CC9835E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421E-3FAA-46B1-AEE3-AEE82E6F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5608-4381-4DCB-8954-65982CC3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F68-FDBD-4A0B-856D-7118F40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74A-B87F-4804-A8DF-C5FF6E8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21C-C53D-4477-A2AB-0F53535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F43-E01E-447D-92FF-BDB9E03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20E-4FE4-4A52-9BFD-FCF7B66B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6A4-C632-482E-B529-42D5A31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BE4-795B-434F-80F1-8318855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AA0-B823-45BA-8DF3-CAAC2D11F3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38DA-E276-4910-B91B-310ACE156E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vow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cknowledgment, frank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vetai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t together with, so as to form a harmonious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broi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in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stran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from affection to dislike or en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i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f ideas between persons or parties of opposing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 Pract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5 words in a sentence that makes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Great Gatsby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scrap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inished turn in and pick up Gatsby puzz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h. 7 fo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w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ach word in a sentence if it doesn’t already have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This is the last week of the third quarter, so the last chance to bring up your grade if you need to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l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umed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nif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on in secrecy and concealment, secret, conc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ig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zzling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a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bun not showing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u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hidden, lie in am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6:10:30Z</dcterms:created>
  <dc:creator>rebecca</dc:creator>
  <dc:description/>
  <dc:language>en-US</dc:language>
  <cp:lastModifiedBy>rebecca</cp:lastModifiedBy>
  <dcterms:modified xsi:type="dcterms:W3CDTF">2009-03-06T16:38:43Z</dcterms:modified>
  <cp:revision>2</cp:revision>
  <dc:subject/>
  <dc:title>DOL</dc:title>
</cp:coreProperties>
</file>